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6858000" cy="9144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900000" y="444600"/>
            <a:ext cx="4601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STALLATION BLOCK TICKE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 USE OF THIS FORM, SEE AR 37-108; THE PROPONENT IS DF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81000" y="977760"/>
            <a:ext cx="6570720" cy="74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LOCK NR     TYPE DOCUMENT          NUMBER OF DOCUMENTS            DATE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30            OMA-EXPENDITURE                16                    *3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UND DISBURSEMENT JOURNAL                    OTHER  (                    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CCOUNT      DEBIT       CREDIT        ACCOUNT         DEBIT          CRED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/A 21       $ 20,363.36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/A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$112,30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/A 32       $ 10,163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/A 40       $ 11,080.3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/A 42       $  (100.00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                               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OSTED TO AND B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76320" y="457200"/>
            <a:ext cx="654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76320" y="4636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2440" y="14479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2440" y="16002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2440" y="19051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440" y="54100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1606680"/>
            <a:ext cx="0" cy="410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2440" y="57150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19112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1911240"/>
            <a:ext cx="0" cy="349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19112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81480" y="19112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54165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2440" y="21337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440" y="23623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2440" y="26668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440" y="29718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440" y="32767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2440" y="35812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2440" y="38862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2440" y="41911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2440" y="44956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2440" y="48006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2440" y="51055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2440" y="60199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2440" y="66294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2440" y="73915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0968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9568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1008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1400" y="8369280"/>
            <a:ext cx="3686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A FORM 3974  1 NOV 72   (COMPUTER LOOK ALIK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45720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400" y="8674200"/>
            <a:ext cx="6403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K                                                                          11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00160" y="379440"/>
            <a:ext cx="34048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       Do not oblig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        Travel Adv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       Disburs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3920" y="2438280"/>
            <a:ext cx="642240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- TRAVEL ADVANCE  FUNCTION       BLOCK NUMBER  330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A    SCR 033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DUE                    LAST         U  ORDER   VOUCHER         RECL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DATE  EOR  APC   ODC   NAME   SSN   C  NUMBER  NUMBER  AMOUNT  WR-OFF IBOP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0    * **028 4110 N102    2    ARM   0172  TT  12009   506202   10000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49720" y="380844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2600" y="533232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2362320"/>
            <a:ext cx="0" cy="364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553080" y="579132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400" y="8674200"/>
            <a:ext cx="6403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K                                                                         21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228600" y="457200"/>
            <a:ext cx="6319800" cy="8308440"/>
            <a:chOff x="228600" y="457200"/>
            <a:chExt cx="6319800" cy="8308440"/>
          </a:xfrm>
        </p:grpSpPr>
        <p:sp>
          <p:nvSpPr>
            <p:cNvPr id="220" name=""/>
            <p:cNvSpPr/>
            <p:nvPr/>
          </p:nvSpPr>
          <p:spPr>
            <a:xfrm>
              <a:off x="228600" y="457200"/>
              <a:ext cx="4756320" cy="231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06560" y="500040"/>
              <a:ext cx="335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ATERIAL INSPECTION AND RECEIVING REPOR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8600" y="7653240"/>
              <a:ext cx="6319800" cy="966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7480" y="7696080"/>
              <a:ext cx="9000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3. CONTRACTOR USE ONLY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9520" y="4387680"/>
              <a:ext cx="29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26280" y="4387680"/>
              <a:ext cx="2071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ENTAL CONTRACT SERVICE - DEC *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27720" y="52768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28080" y="5423040"/>
              <a:ext cx="8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28080" y="5576760"/>
              <a:ext cx="8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940360" y="4387680"/>
              <a:ext cx="464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,000.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72600" y="4387680"/>
              <a:ext cx="57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,000.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75240" y="1235160"/>
              <a:ext cx="495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75240" y="1235160"/>
              <a:ext cx="495360" cy="272880"/>
            </a:xfrm>
            <a:custGeom>
              <a:avLst/>
              <a:gdLst/>
              <a:ahLst/>
              <a:rect l="l" t="t" r="r" b="b"/>
              <a:pathLst>
                <a:path w="58" h="32">
                  <a:moveTo>
                    <a:pt x="58" y="32"/>
                  </a:move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15920" y="1260360"/>
              <a:ext cx="287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7.   PAG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13240" y="7251840"/>
              <a:ext cx="2135160" cy="4111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69400" y="7251840"/>
              <a:ext cx="1803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* If quantity received by the Government is th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465080" y="7346880"/>
              <a:ext cx="1520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same as quantity shipped, indicate by (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39760" y="1508040"/>
              <a:ext cx="2049480" cy="138240"/>
            </a:xfrm>
            <a:custGeom>
              <a:avLst/>
              <a:gdLst/>
              <a:ahLst/>
              <a:rect l="l" t="t" r="r" b="b"/>
              <a:pathLst>
                <a:path w="240" h="16">
                  <a:moveTo>
                    <a:pt x="0" y="0"/>
                  </a:moveTo>
                  <a:lnTo>
                    <a:pt x="240" y="0"/>
                  </a:lnTo>
                  <a:lnTo>
                    <a:pt x="240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2039760" y="1508040"/>
              <a:ext cx="1800" cy="13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67480" y="1525680"/>
              <a:ext cx="351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4. B/L     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79920" y="3970440"/>
              <a:ext cx="1068480" cy="409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25360" y="3987720"/>
              <a:ext cx="89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0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734440" y="3944880"/>
              <a:ext cx="67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805720" y="4192560"/>
              <a:ext cx="383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MOUN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79920" y="4379760"/>
              <a:ext cx="1068480" cy="1778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413240" y="3970440"/>
              <a:ext cx="324000" cy="409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447440" y="3987720"/>
              <a:ext cx="89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8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48600" y="39448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31680" y="4064040"/>
              <a:ext cx="9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73720" y="4192560"/>
              <a:ext cx="206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13240" y="4379760"/>
              <a:ext cx="324000" cy="1778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87400" y="3970440"/>
              <a:ext cx="2792520" cy="409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56240" y="3987720"/>
              <a:ext cx="107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6.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92320" y="3962520"/>
              <a:ext cx="1015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OCK/PART NO.         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78080" y="3987720"/>
              <a:ext cx="4032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800080" y="3962520"/>
              <a:ext cx="703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SCRIPTION  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267560" y="4081320"/>
              <a:ext cx="1879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(Indicate number of shipping containers - type o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22160" y="4192560"/>
              <a:ext cx="1200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container - container number.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19240" y="419256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87400" y="4379760"/>
              <a:ext cx="2792520" cy="1778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37960" y="6294600"/>
              <a:ext cx="1963800" cy="1368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00440" y="6311880"/>
              <a:ext cx="42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. ORIGI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28600" y="3970440"/>
              <a:ext cx="658800" cy="409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2440" y="3987720"/>
              <a:ext cx="455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5.               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1440" y="4192560"/>
              <a:ext cx="21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TE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8600" y="689040"/>
              <a:ext cx="6319800" cy="469800"/>
            </a:xfrm>
            <a:custGeom>
              <a:avLst/>
              <a:gdLst/>
              <a:ahLst/>
              <a:rect l="l" t="t" r="r" b="b"/>
              <a:pathLst>
                <a:path w="740" h="55">
                  <a:moveTo>
                    <a:pt x="0" y="0"/>
                  </a:moveTo>
                  <a:lnTo>
                    <a:pt x="740" y="0"/>
                  </a:lnTo>
                  <a:lnTo>
                    <a:pt x="740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228600" y="688680"/>
              <a:ext cx="1440" cy="46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43720" y="714240"/>
              <a:ext cx="5421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ublic reporting burden for this collection of information is estimated to average 30 minutes per response, including the time for reviewing instructions, searching existing data sources, gathering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4800" y="782640"/>
              <a:ext cx="5089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nd maintaining the data needed, and completing and reviewing the collection of information.  Send comments regarding this burden estimate or any other aspect of this collection of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40840" y="851040"/>
              <a:ext cx="53730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information, including suggestions for reducing this burden, to Department of Defense, Washington Headquarters Services, Directorate for Information Operations and Reports, 1215 Jefferso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48040" y="919080"/>
              <a:ext cx="4766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avis Highway, Suite 1204, Arlington, VA 22202-4302, and to the Office of Management and Budget, Paperwork Reduction Project (0704-0248), Washington, DC 20503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28600" y="1235160"/>
              <a:ext cx="238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8600" y="1235160"/>
              <a:ext cx="2382840" cy="272880"/>
            </a:xfrm>
            <a:custGeom>
              <a:avLst/>
              <a:gdLst/>
              <a:ahLst/>
              <a:rect l="l" t="t" r="r" b="b"/>
              <a:pathLst>
                <a:path w="279" h="32">
                  <a:moveTo>
                    <a:pt x="279" y="32"/>
                  </a:move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64240" y="1270080"/>
              <a:ext cx="1317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. PROC. INSTRUMENT IDEN. (CONTRACT)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681200" y="12445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1080" y="1336680"/>
              <a:ext cx="915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AFI01-**-C 1713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432240" y="1235160"/>
              <a:ext cx="1143000" cy="272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68960" y="1270080"/>
              <a:ext cx="675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6. INVOICE NO./DATE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8600" y="1508040"/>
              <a:ext cx="990720" cy="4111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67480" y="1525680"/>
              <a:ext cx="554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. SHIPMENT NO.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78040" y="15001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69640" y="1601640"/>
              <a:ext cx="270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72-8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039760" y="1508040"/>
              <a:ext cx="2049480" cy="274680"/>
            </a:xfrm>
            <a:custGeom>
              <a:avLst/>
              <a:gdLst/>
              <a:ahLst/>
              <a:rect l="l" t="t" r="r" b="b"/>
              <a:pathLst>
                <a:path w="240" h="32">
                  <a:moveTo>
                    <a:pt x="0" y="0"/>
                  </a:moveTo>
                  <a:lnTo>
                    <a:pt x="240" y="0"/>
                  </a:lnTo>
                  <a:lnTo>
                    <a:pt x="24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039760" y="1507680"/>
              <a:ext cx="1800" cy="27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072160" y="148284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072160" y="160344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089240" y="1508040"/>
              <a:ext cx="2459160" cy="4111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19480" y="1525680"/>
              <a:ext cx="648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5. DISCOUNT TERM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127840" y="1601640"/>
              <a:ext cx="49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/10, N/3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70000" y="8628120"/>
              <a:ext cx="1158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D Form 250, NOV 9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59080" y="8688240"/>
              <a:ext cx="4471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USAPPC V1.0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984920" y="457200"/>
              <a:ext cx="1563480" cy="231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22680" y="492120"/>
              <a:ext cx="586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Form Approved   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425920" y="568440"/>
              <a:ext cx="584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OMB No. 0704-0248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479920" y="1235160"/>
              <a:ext cx="1068480" cy="272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20240" y="1260360"/>
              <a:ext cx="7232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8. ACCEPTANCE POIN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611440" y="1235160"/>
              <a:ext cx="820800" cy="272880"/>
            </a:xfrm>
            <a:custGeom>
              <a:avLst/>
              <a:gdLst/>
              <a:ahLst/>
              <a:rect l="l" t="t" r="r" b="b"/>
              <a:pathLst>
                <a:path w="96" h="32">
                  <a:moveTo>
                    <a:pt x="96" y="0"/>
                  </a:moveTo>
                  <a:lnTo>
                    <a:pt x="96" y="32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611440" y="1235160"/>
              <a:ext cx="820800" cy="136440"/>
            </a:xfrm>
            <a:custGeom>
              <a:avLst/>
              <a:gdLst/>
              <a:ahLst/>
              <a:rect l="l" t="t" r="r" b="b"/>
              <a:pathLst>
                <a:path w="96" h="16">
                  <a:moveTo>
                    <a:pt x="0" y="0"/>
                  </a:moveTo>
                  <a:lnTo>
                    <a:pt x="96" y="0"/>
                  </a:lnTo>
                  <a:lnTo>
                    <a:pt x="96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2611440" y="1234800"/>
              <a:ext cx="1440" cy="13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52120" y="1260360"/>
              <a:ext cx="406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(ORDER) NO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219320" y="1508040"/>
              <a:ext cx="820440" cy="4111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52080" y="1525680"/>
              <a:ext cx="5601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3. DATE SHIPPED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860480" y="15001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254240" y="160164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39760" y="1697040"/>
              <a:ext cx="2049480" cy="2221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1800" y="1757520"/>
              <a:ext cx="168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CN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600" y="3286080"/>
              <a:ext cx="3203640" cy="684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57760" y="3328920"/>
              <a:ext cx="989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3. SHIPPED TO                      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33520" y="33037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458000" y="32860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70360" y="3430440"/>
              <a:ext cx="1100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US ARMY HOSPIT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71440" y="357660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7840" y="3720960"/>
              <a:ext cx="1404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ORT STEWART, GA 313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039760" y="3286080"/>
              <a:ext cx="1392480" cy="179280"/>
            </a:xfrm>
            <a:custGeom>
              <a:avLst/>
              <a:gdLst/>
              <a:ahLst/>
              <a:rect l="l" t="t" r="r" b="b"/>
              <a:pathLst>
                <a:path w="163" h="21">
                  <a:moveTo>
                    <a:pt x="0" y="0"/>
                  </a:moveTo>
                  <a:lnTo>
                    <a:pt x="163" y="0"/>
                  </a:lnTo>
                  <a:lnTo>
                    <a:pt x="163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2039760" y="3286080"/>
              <a:ext cx="1800" cy="17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8600" y="2603520"/>
              <a:ext cx="3203640" cy="6825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68560" y="2646360"/>
              <a:ext cx="595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1. SHIPPED FROM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97840" y="2646360"/>
              <a:ext cx="474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(If other than 9)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455840" y="2646360"/>
              <a:ext cx="128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039760" y="2603520"/>
              <a:ext cx="733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2039760" y="2603520"/>
              <a:ext cx="1800" cy="17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96840" y="2662200"/>
              <a:ext cx="151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FOB: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953440" y="26370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32240" y="3286080"/>
              <a:ext cx="3116160" cy="684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67880" y="3328920"/>
              <a:ext cx="662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4. MARKED FOR  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207680" y="3286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479920" y="3286080"/>
              <a:ext cx="1059120" cy="179280"/>
            </a:xfrm>
            <a:custGeom>
              <a:avLst/>
              <a:gdLst/>
              <a:ahLst/>
              <a:rect l="l" t="t" r="r" b="b"/>
              <a:pathLst>
                <a:path w="124" h="21">
                  <a:moveTo>
                    <a:pt x="0" y="0"/>
                  </a:moveTo>
                  <a:lnTo>
                    <a:pt x="124" y="0"/>
                  </a:lnTo>
                  <a:lnTo>
                    <a:pt x="124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5479920" y="3286080"/>
              <a:ext cx="1800" cy="17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32240" y="2603520"/>
              <a:ext cx="3116160" cy="6825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468600" y="2646360"/>
              <a:ext cx="10126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2. PAYMENT WILL BE MADE BY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473280" y="27478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473280" y="289260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69680" y="3038400"/>
              <a:ext cx="1404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ORT STEWART, GA 313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79920" y="2603520"/>
              <a:ext cx="1059120" cy="179280"/>
            </a:xfrm>
            <a:custGeom>
              <a:avLst/>
              <a:gdLst/>
              <a:ahLst/>
              <a:rect l="l" t="t" r="r" b="b"/>
              <a:pathLst>
                <a:path w="124" h="21">
                  <a:moveTo>
                    <a:pt x="0" y="0"/>
                  </a:moveTo>
                  <a:lnTo>
                    <a:pt x="124" y="0"/>
                  </a:lnTo>
                  <a:lnTo>
                    <a:pt x="124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479920" y="2603520"/>
              <a:ext cx="1800" cy="17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432240" y="1919160"/>
              <a:ext cx="3116160" cy="684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469680" y="1962000"/>
              <a:ext cx="7491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0. ADMINISTERED BY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292640" y="191916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72200" y="2063880"/>
              <a:ext cx="75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&amp;C OFFICER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469680" y="2208240"/>
              <a:ext cx="1404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ORT STEWART, GA 313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79920" y="1919160"/>
              <a:ext cx="1059120" cy="179640"/>
            </a:xfrm>
            <a:custGeom>
              <a:avLst/>
              <a:gdLst/>
              <a:ahLst/>
              <a:rect l="l" t="t" r="r" b="b"/>
              <a:pathLst>
                <a:path w="124" h="21">
                  <a:moveTo>
                    <a:pt x="0" y="0"/>
                  </a:moveTo>
                  <a:lnTo>
                    <a:pt x="124" y="0"/>
                  </a:lnTo>
                  <a:lnTo>
                    <a:pt x="124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479920" y="1918800"/>
              <a:ext cx="1800" cy="179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28600" y="1919160"/>
              <a:ext cx="3203640" cy="684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7120" y="1962000"/>
              <a:ext cx="762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9. PRIME CONTRACTOR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081440" y="191916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0360" y="2063880"/>
              <a:ext cx="17229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QUALITY X-RAY SERVICES INC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965 INDUSTRIAL BLV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AVANNAH,   GA 31314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69280" y="2208240"/>
              <a:ext cx="1315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965 INDUSTRIAL BLVD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1440" y="235440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039760" y="1919160"/>
              <a:ext cx="1392480" cy="179640"/>
            </a:xfrm>
            <a:custGeom>
              <a:avLst/>
              <a:gdLst/>
              <a:ahLst/>
              <a:rect l="l" t="t" r="r" b="b"/>
              <a:pathLst>
                <a:path w="163" h="21">
                  <a:moveTo>
                    <a:pt x="0" y="0"/>
                  </a:moveTo>
                  <a:lnTo>
                    <a:pt x="163" y="0"/>
                  </a:lnTo>
                  <a:lnTo>
                    <a:pt x="163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2039760" y="1918800"/>
              <a:ext cx="1800" cy="179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44520" y="8637480"/>
              <a:ext cx="1178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Previous edition may be used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737240" y="3970440"/>
              <a:ext cx="742680" cy="409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788720" y="3987720"/>
              <a:ext cx="89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9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898160" y="3944880"/>
              <a:ext cx="544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061960" y="4064040"/>
              <a:ext cx="9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857480" y="4192560"/>
              <a:ext cx="502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IT PRIC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79920" y="3970440"/>
              <a:ext cx="733320" cy="409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38600" y="3987720"/>
              <a:ext cx="473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7.                   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807000" y="4081320"/>
              <a:ext cx="447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QUANT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762720" y="4192560"/>
              <a:ext cx="535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HIP/REC'D*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8600" y="6157800"/>
              <a:ext cx="4184640" cy="136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60600" y="6167520"/>
              <a:ext cx="1471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TRACT QUALITY ASSURANC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70720" y="6192720"/>
              <a:ext cx="89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1.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413240" y="6157800"/>
              <a:ext cx="2135160" cy="1094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454640" y="6183360"/>
              <a:ext cx="12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2. 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616280" y="6157800"/>
              <a:ext cx="1152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CEIVER'S US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464720" y="6346800"/>
              <a:ext cx="177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Quantities shown in column 17 were receive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66520" y="6432480"/>
              <a:ext cx="170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 apparent good condition except as noted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43840" y="6738840"/>
              <a:ext cx="1814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ATE RECEIVED           SIGNATURE OF AUTH GOVT REP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455000" y="6918480"/>
              <a:ext cx="416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YPED NAM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453560" y="7013520"/>
              <a:ext cx="389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ND OFFIC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413240" y="6705720"/>
              <a:ext cx="735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32240" y="6705720"/>
              <a:ext cx="1316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201760" y="6294600"/>
              <a:ext cx="2211480" cy="1368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945520" y="6311880"/>
              <a:ext cx="703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. DESTIN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4400" y="6568920"/>
              <a:ext cx="1634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as been made by me or under my super-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3680" y="6680160"/>
              <a:ext cx="1671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ision and they conform to contract, excep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3320" y="6799320"/>
              <a:ext cx="174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s noted herein or on supporting documents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06360" y="6423120"/>
              <a:ext cx="119160" cy="136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0720" y="6458040"/>
              <a:ext cx="192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Q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08120" y="6423120"/>
              <a:ext cx="118800" cy="136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88120" y="6475320"/>
              <a:ext cx="1169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CCEPTANCE of listed item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78080" y="6431040"/>
              <a:ext cx="120600" cy="137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449440" y="6475320"/>
              <a:ext cx="192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Q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689200" y="6431040"/>
              <a:ext cx="119160" cy="137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59840" y="6475320"/>
              <a:ext cx="1169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CCEPTANCE of listed item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258280" y="6568920"/>
              <a:ext cx="2001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as been made by me or under my supervision an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259360" y="6680160"/>
              <a:ext cx="1879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ey conform to contract, except as noted herei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252520" y="6799320"/>
              <a:ext cx="1113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r on supporting documents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0360" y="7362720"/>
              <a:ext cx="416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YPED NAM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68920" y="7473960"/>
              <a:ext cx="389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ND OFFIC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43520" y="7362720"/>
              <a:ext cx="416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YPED NAM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242080" y="7473960"/>
              <a:ext cx="3466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ND TIITL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54840" y="1952640"/>
              <a:ext cx="22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CODE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154840" y="2637000"/>
              <a:ext cx="22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CODE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54840" y="3321000"/>
              <a:ext cx="22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CODE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713240" y="1952640"/>
              <a:ext cx="22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CODE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713240" y="2637000"/>
              <a:ext cx="22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CODE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713240" y="3321000"/>
              <a:ext cx="22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CODE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01760" y="7115040"/>
              <a:ext cx="614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13800" y="7132680"/>
              <a:ext cx="171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859120" y="7115040"/>
              <a:ext cx="1554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083400" y="7132680"/>
              <a:ext cx="1024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IGNATURE OF AUTH GOVT REP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14280" y="7115040"/>
              <a:ext cx="452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50000" y="7132680"/>
              <a:ext cx="171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09640" y="7115040"/>
              <a:ext cx="1392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57600" y="7132680"/>
              <a:ext cx="1024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IGNATURE OF AUTH GOVT REP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70600" y="1235160"/>
              <a:ext cx="409320" cy="272880"/>
            </a:xfrm>
            <a:custGeom>
              <a:avLst/>
              <a:gdLst/>
              <a:ahLst/>
              <a:rect l="l" t="t" r="r" b="b"/>
              <a:pathLst>
                <a:path w="48" h="32">
                  <a:moveTo>
                    <a:pt x="48" y="0"/>
                  </a:moveTo>
                  <a:lnTo>
                    <a:pt x="48" y="32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070600" y="1235160"/>
              <a:ext cx="409320" cy="13644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0" y="0"/>
                  </a:moveTo>
                  <a:lnTo>
                    <a:pt x="48" y="0"/>
                  </a:lnTo>
                  <a:lnTo>
                    <a:pt x="48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5070600" y="1234800"/>
              <a:ext cx="1440" cy="13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111640" y="1260360"/>
              <a:ext cx="90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OF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0480" y="437976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0480" y="442260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0480" y="4475160"/>
              <a:ext cx="180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0480" y="451656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0480" y="4559400"/>
              <a:ext cx="18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0480" y="4611600"/>
              <a:ext cx="180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690480" y="465444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90480" y="46972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90480" y="473868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90480" y="4791240"/>
            <a:ext cx="18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90480" y="483408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90480" y="487692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90480" y="4927680"/>
            <a:ext cx="18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90480" y="497052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90480" y="501336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0480" y="5064120"/>
            <a:ext cx="180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90480" y="510696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90480" y="514980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90480" y="5200560"/>
            <a:ext cx="180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90480" y="524340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90480" y="528624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90480" y="53290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0480" y="5380200"/>
            <a:ext cx="18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90480" y="542304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90480" y="546588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90480" y="5516640"/>
            <a:ext cx="18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90480" y="555948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90480" y="560232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90480" y="5654520"/>
            <a:ext cx="1800" cy="16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90480" y="569592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90480" y="573876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90480" y="5791320"/>
            <a:ext cx="180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90480" y="583416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90480" y="58752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90480" y="591804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90480" y="5970600"/>
            <a:ext cx="180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90480" y="601344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90480" y="60562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90480" y="6107040"/>
            <a:ext cx="180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0480" y="6149880"/>
            <a:ext cx="18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6129360" y="7354800"/>
            <a:ext cx="93600" cy="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129360" y="738036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67240" y="7432560"/>
            <a:ext cx="158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if different, enter actual quantity receiv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462200" y="7526160"/>
            <a:ext cx="1418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below quantity shipped and encirc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193080" y="7346880"/>
            <a:ext cx="29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) mark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446480" y="979560"/>
            <a:ext cx="387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LEASE DO NOT RETURN YOUR COMPLETED FORM TO EITHER OF THESE ADDRESSE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011960" y="1090440"/>
            <a:ext cx="4623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THIS FORM IN ACCORDANCE WITH THE INSTRUCTIONS CONTAINED IN THE DFARS, APPENDIX F-401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11920" y="6850080"/>
            <a:ext cx="835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nis Rom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BO, GM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28600" y="457200"/>
            <a:ext cx="6319800" cy="8163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172960" y="6881760"/>
            <a:ext cx="705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 Dec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984760" y="6881760"/>
            <a:ext cx="1126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Michael Gor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382640" y="6494400"/>
            <a:ext cx="705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 Dec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280480" y="6494400"/>
            <a:ext cx="1051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Dennis Rom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873520" y="7186680"/>
            <a:ext cx="1371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CHAEL GOR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acting A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20880" y="4861080"/>
            <a:ext cx="299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7*0130 74-7406 847792.33-2320 W23DFB*3190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330  S090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768480" y="4343400"/>
            <a:ext cx="57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Mont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1400" y="8674200"/>
            <a:ext cx="6403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K                                                                         22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206640" y="385920"/>
            <a:ext cx="33361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NONE  Accrual Docu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Accr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AE/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00160" y="2443320"/>
            <a:ext cx="61480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ACCRUAL/EXPENSES-GENERAL  FUNCTION      BLOCK NUMBER  330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                     DOCUMENT            F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 EOR  APC   ODC       NUMBER             I    AMOUNT    NAME     FOREIG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URRENC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32   *  2320  W330   2    W23DFB*3190004             100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1400" y="8674200"/>
            <a:ext cx="6403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K                                                                         23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9" name=""/>
          <p:cNvGraphicFramePr/>
          <p:nvPr/>
        </p:nvGraphicFramePr>
        <p:xfrm>
          <a:off x="0" y="152280"/>
          <a:ext cx="6858000" cy="868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280"/>
                    <a:ext cx="6858000" cy="868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1" name=""/>
          <p:cNvSpPr/>
          <p:nvPr/>
        </p:nvSpPr>
        <p:spPr>
          <a:xfrm>
            <a:off x="41400" y="8674200"/>
            <a:ext cx="6435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K                                                                          24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201960" y="385920"/>
            <a:ext cx="53935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   PO less than $100,000.00. Obligate upon issu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    Accr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   Obl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00160" y="2443320"/>
            <a:ext cx="61480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  330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3     *    25CZ  W601    2   W23DFB*3340002        163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1400" y="8674200"/>
            <a:ext cx="6403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K                                                                         25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00160" y="2055960"/>
            <a:ext cx="6148080" cy="159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 FUNCTION                BLOCK NUMBER 330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2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DOCUMENT/CUST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APC   ODC   NUMBER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0    *    21T1  N102   2  ARM0172TT12009   406906   F     65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0    *    21T2  N102   2  ARM0172TT12009   406906   F    10000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76480" y="3656160"/>
            <a:ext cx="6148080" cy="132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TRAVEL ADV FUNCTION      BLOCK NUMBER  330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A    SCR 03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DUE              LAST     U  ORDER   VOUCHER           RECLS/        CA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DATE  EOR  APC ODC NAME SSN C  NUMBER   NUMBER   AMOUNT  WR-OFF  IBOP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2    * **028 4110 N102  2  ARM 0172 TT 12009    406906    10000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00160" y="5103720"/>
            <a:ext cx="614808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  330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     *    21T1  N102     2  ARM0172TT12009         1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6480" y="6558120"/>
            <a:ext cx="60796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03040" y="304920"/>
            <a:ext cx="491364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 Adjust Prompt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  Obligation/Travel Adv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 Disbursement/Collection/Obligation and AE/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1400" y="8674200"/>
            <a:ext cx="6403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K                                                                         27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1" name=""/>
          <p:cNvGraphicFramePr/>
          <p:nvPr/>
        </p:nvGraphicFramePr>
        <p:xfrm>
          <a:off x="152280" y="152280"/>
          <a:ext cx="6858000" cy="830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6858000" cy="830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"/>
          <p:cNvSpPr/>
          <p:nvPr/>
        </p:nvSpPr>
        <p:spPr>
          <a:xfrm>
            <a:off x="41400" y="8674200"/>
            <a:ext cx="6403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K                                                                         28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06280" y="385920"/>
            <a:ext cx="3542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Not Final/No Ru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Accr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Disburs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00160" y="2443320"/>
            <a:ext cx="614808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 FUNCTION          BLOCK NUMBER  330   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DOCUMENT/CUST    VOUCHER   F              OBS/   CA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  YEAR   EOR  APC   ODC     NUMBER         NUMBER   I  AMOUNT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0      *    2320  W330   2   W23DFB*3190004    226400     100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1400" y="8674200"/>
            <a:ext cx="6403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K                                                                         29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06040" y="4038480"/>
            <a:ext cx="781920" cy="226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T FI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140040" y="219240"/>
            <a:ext cx="1864080" cy="393480"/>
          </a:xfrm>
          <a:prstGeom prst="rect">
            <a:avLst/>
          </a:prstGeom>
          <a:noFill/>
          <a:ln w="5724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ORGIA B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 AMERITECH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937400" y="495360"/>
            <a:ext cx="786600" cy="24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C 26,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56440" y="927000"/>
            <a:ext cx="14904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ORGIA B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O. BOX 70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AVANNAH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55360" y="1562040"/>
            <a:ext cx="16218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ST SIGNAL OFF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LDG 200, RM 1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T. STEWART, GA 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800600" y="1079640"/>
            <a:ext cx="1301760" cy="54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MOUNT PA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27160" y="2141640"/>
            <a:ext cx="6321240" cy="54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URRENT CHARGES                                                                               TOTAL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ST DUE AFTER....  JAN 5, **                                                             AMOUNT DUE:  $14,18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47600" y="2890800"/>
            <a:ext cx="64864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TACH AND MAIL TOP PORTION WITH YOUR CHECK MADE PAYABLE TO GEORGIA BELL FOR THE TOTAL AMOUNT D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01480" y="3429000"/>
            <a:ext cx="587376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28560" y="3619440"/>
            <a:ext cx="1374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ILLING SUMM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576320" y="3645000"/>
            <a:ext cx="1123200" cy="24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912)  355-XXX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689720" y="4152960"/>
            <a:ext cx="850320" cy="24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C 26, **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01520" y="4533840"/>
            <a:ext cx="6599160" cy="100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VIOUS                                                                                                PAST DUE              CURRENT                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ILL                           PAYMENTS             ADJUSTMENTS                  AMOUNT              CHARGES               AMOU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13,965.00                   $13,965.00                   $0.00                                        0.00                  $14,185.00                 $14,18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4807080" y="1295280"/>
            <a:ext cx="1282680" cy="298440"/>
            <a:chOff x="4807080" y="1295280"/>
            <a:chExt cx="1282680" cy="298440"/>
          </a:xfrm>
        </p:grpSpPr>
        <p:sp>
          <p:nvSpPr>
            <p:cNvPr id="529" name=""/>
            <p:cNvSpPr/>
            <p:nvPr/>
          </p:nvSpPr>
          <p:spPr>
            <a:xfrm>
              <a:off x="4807080" y="129528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867280" y="130176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358920" y="5473800"/>
            <a:ext cx="6036840" cy="32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MMARY OF CURRENT CHAR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ORGIA B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FOR DETAILED CHARGES - SEE PAG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NTHLY SERVICE .........................................................................................................................$12,87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NG DISTANCE................................................................................................................................$  1,31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DIANA BELL CURRENT CHARGES............................................................................................$ 14,18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&amp;T COMMUN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FOR DETAILED CHARGES - SEE PAGE 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NG DISTANCE..................................................................................................................................$        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&amp;T COMMUNICATIONS CURRENT CHARGES..........................................................................$       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TAL CURRENT CHARGES..............................................................................................................$14,18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*2020 03-3116 117095.00-2330 PHN12**GEOBELL/U300 S090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 CERTIFY THAT THE SERVICE CALLED FOR IN THE DELIVERY OR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AS BEEN RENDERED PER THE TERMS &amp; SPECIFICATIONS OF TH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RDE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ORGIA BELL                                                                             /S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 AMERITECH COMPANY                                       RUPERT O. TAYL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J, S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 DEC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76280" y="7238880"/>
            <a:ext cx="598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52600" y="8096400"/>
            <a:ext cx="1714320" cy="419040"/>
          </a:xfrm>
          <a:prstGeom prst="rect">
            <a:avLst/>
          </a:prstGeom>
          <a:noFill/>
          <a:ln w="381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1400" y="8674200"/>
            <a:ext cx="6403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K                                                                         30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199800" y="385920"/>
            <a:ext cx="628524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      Obligate the entire amount of the bill in th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nth in which the billing period ends, regardless of FY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       Obl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      Obligation/A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  330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     *    2330  U300     2  PHN12**GEOBELL      1418500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553080" y="571500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1400" y="8674200"/>
            <a:ext cx="6403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K                                                                         31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1000" y="74520"/>
            <a:ext cx="6684840" cy="955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QUEST AND AUTHORIZATION FOR TDY TRAVEL OF DOD PERSONNEL                    DATE OF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REFERENCE:  JOINT TRAVEL REGULATIONS)                               REQUES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AUTHORIZED AS INDICATED IN ITEMS 2 THROUGH 21.                    6 NOV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REQUEST FOR OFFICIAL TRAVEL                                      .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.  NAME (LAST, FIRST, MIDDLE INITIAL          3. POSITION TITLE AND GRADE OR RA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ORJES, KEN H.     134-90-8888             ADMIN NCOIC, SF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.     OFFICIAL STATION                        5.  ORGANIZATIONAL ELEMENT       6.  PHONE N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. STEWART, GA  31314                        HHC, 23D BDE                     789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7.  TYPE OF ORDERS     8. SECURITY CLEARANCE   9.  PURPOSE OF TD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DY                   SECRET               CLASS 28-** PERSONNEL MGMT COUR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#5-20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0a.APPROX NO OF DAY   b. PROCEED O/A (DA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 TDY (INCLUDING)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TIME)             05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1.  ITINERARY             [ ]VARIATION AUTHORIZ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05 DEC **    FROM FT. STEWART, - ARR FT. SHERIDAN, IL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0 DEC **    DEP FT. SHERIDAN - ARR FT. STEW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2.                           MODE OF TRANSPOR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COMMERCIAL               GOVERNMENT                PRIVATELY OWNED CONVEYANCE (CHECK ONE)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RAIL AIR  BUS  SHIP   AIR  VEHICLE  SHIP          RATE  PER MILE  .31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XX                                            [ ] MORE ADVANTAGEOUS TO GOVERN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ILEAGE REIMBURSEMENT AND PERDIEM IMI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 DETERMINED BY APPROPRIATE                   [ ]TO CONSTRUCTIVE COST OF COMMON CARRI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 ]TRANSPORTATION OFFICER (O/S ONLY)                 TRANSPORTATION &amp; RELATED PER DIEM 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ETERMINED IN JTR.  TRAVEL TIME LIMI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AS INDICATED IN JTR.                    .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3.  [X]  PERDIEM AUTHORIZED IN ACCORDANCE WITH JTR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[ ] OTHER RATE OF PER DIEM (SPECIFY)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.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4.                               ESTIMATED COST                           15.  ADVANCE       .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ER DIEM            TRAVEL           OTHER             TOTAL            AUTHORIZE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$  365.00             $  425.00        $  0.00          $  790.00               MAX 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6.  REMARKS  (USE THIS SPACE FOR SPECIAL REQUIREMENTS, LEAVE, SUPERIOR OR 1ST CLAS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XCESS BAGGAGE, REGISTRATION FEES, ETC.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OVERNMENT QUARTERS AND MESSING FACILITIES ARE AVAILABL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7. REQUESTING OFFICIAL (TITLE/SIGNATURE)         18. APPROVING OFFICIAL (TITLE AND SIGNATUR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                                               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ATHERINE GARRITY, CPT, AG,ADMIN OFFICER          ROBERT L. EICHLER, LTC, GS, COMPTROLL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UTHORIZ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9. ACCOUNTING CI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96.NB-21T1 BOR8888TT/N103 S09076  $425.00      HORANCE R. BEEM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96.NB-21T2 BOR8888TT/N103 S09076  $365.00      MAJ, F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BUDGET OFFICER        .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0.  ORDER AUTHORIZING OFFICIAL (TITLE AND SIGNATURE)               21.  DATE ISSU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2.  TRAVEL ORDER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5080" y="36576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440" y="259092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352680" y="84456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76520" y="153036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62485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69343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71629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30760" y="8153280"/>
            <a:ext cx="204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5080" y="69343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32767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114300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152388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5335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11494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30481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1981080"/>
            <a:ext cx="319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79311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320" y="8532720"/>
            <a:ext cx="2650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D FORM 1610  (COMPUTER LOOK ALIK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05320" y="62546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82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352680" y="67896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3282840"/>
            <a:ext cx="0" cy="120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3809880"/>
            <a:ext cx="327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3282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35114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4959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43200" y="4883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62520" y="4883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81480" y="48070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400" y="8674200"/>
            <a:ext cx="6403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K                                                                          12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284040" y="228600"/>
            <a:ext cx="6345360" cy="846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ANDARD FORM 23                                              CONTRACT NO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JANUARY 1961 EDITION         CONSTRUCTION CONTRACT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 DAFI01 **C 1594  .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SEE INSTRUCTION ON REVERSE)      DATE OF CONTR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6 DEC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AME AND ADDRESS OF CONTRACTOR                               CHECK APPROPRIATE BO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[ ] INDIVI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MITH BROTHERS BUILDING &amp; SUPPLY                         [ ] PARTNERSH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130 S. MADISON                                          [ ] JOINT VEN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AVANNAH, GA  31314                                      [X] CORPORATION IN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THE STATE OF: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PARTMENT OR AGENCY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PARTMENT OF THE ARM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NTRACT FOR (WORK TO BE PERFORMED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INOR REPAIR AND PAINTING EXTERIOR OF BLDGS# 3408, 3207, 4630, 4909, 4881, and 501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LAC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T. STEWART, GA. 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NTRACT PRICE (EXPRESS IN WORDS AND FIGURES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EN THOUSAND SIX HUNDRED FORTY TWO DOLLARS                     $10,642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DMINISTRATIVE DATA (OPTIONAL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*2020 76-9505 117078.Z0-25CZ W23DFB*3350013/L101 S090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PROGRESS PAYMENTS ARE AUTHORIZED AT THE RATE OF 10% PER BLDG COMPLET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HE UNITED STATES OF AMERICA (HEREINAFTER CALLED THE GOVERNMENT), REPRESENTED B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HE CONTRACTING OFFICER EXECUTING THIS CONTRACT, AND THE INDIVIDUAL, PARTNERSH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JOINT VENTURE, OR CORPORATION NAMED ABOVE (HEREINAFTER CALLED THE CONTRACTOR)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UTUALLY AGREE TO PERFORM THIS CONTRACT IN STRICT ACCORDANCE WITH THE GENE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OVISIONS (SF23-A), LABOR STANDARDS PROVISIONS APPLICABLE TO CONTRACTS IN EXCESS OF $2,000 (SF 19-A), AND THE FOLLOWING DESIGNATED SPECIFICATIONS, SCHEDULES,DRAWINGS, AND CONDITION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WORK SHALL BE STARTED:                   WORK SHALL BE COMPLE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 DEC **                                    15 FEB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1040" y="1143000"/>
            <a:ext cx="631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4920" y="2286000"/>
            <a:ext cx="632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876920" y="228600"/>
            <a:ext cx="0" cy="197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1040" y="2514600"/>
            <a:ext cx="631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11040" y="2971800"/>
            <a:ext cx="631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1040" y="3581280"/>
            <a:ext cx="631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1040" y="4038480"/>
            <a:ext cx="631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11040" y="7848720"/>
            <a:ext cx="631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78487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04920" y="4495680"/>
            <a:ext cx="631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1400" y="8674200"/>
            <a:ext cx="6403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K                                                                         32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202320" y="385920"/>
            <a:ext cx="525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   Obligate upon written acceptance by the Ven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    Accru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   Obl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00160" y="2443320"/>
            <a:ext cx="614808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 330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3     *    25CZ   L101    2  W23DFB*3350013      1064200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37880" y="6089760"/>
            <a:ext cx="6353640" cy="27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 WITNESS WHEREOF, THE PARTIES HERETO HAVE EXECUTED THIS CONTRACT AS OF THE 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TERED ON THE FIRST PAGE HEREOF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HE UNITED STATES OF AMERICA                      CONTRA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S/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Y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     WENDELL PURCHASE, LTC, INF  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 SMITH BROTHERS BLDG &amp; SUPPLY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NAME OF CONTRACTO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PURCHASING &amp; CONTRACTING OFFICER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BY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          /S/                 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OFFICIAL TITLE)                         (SIGNATUR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.         PARTNER               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TIT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                                                              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STRU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THE FULL NAME AND BUSINESS ADDRESS OF THE CONTRACTOR MUST BE INSERTED IN THE SPACE PROVIDE ON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FACE OF THE FORM.  THE CONTRACTOR SHALL SIGN IN THE SPACE PROVIDED ABOVE WITH HIS USUAL SIGNATURE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TYPEWRITE OR PRINT HIS NAME UNDER THE SIGNATUR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1400" y="8674200"/>
            <a:ext cx="6403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K                                                                         33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4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6" name=""/>
          <p:cNvSpPr/>
          <p:nvPr/>
        </p:nvSpPr>
        <p:spPr>
          <a:xfrm>
            <a:off x="41400" y="8763120"/>
            <a:ext cx="6403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K                                                                         34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194040" y="455760"/>
            <a:ext cx="614808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  Adjust Promptly/Record at Net/Final/Delivery Order, Oblig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upon issu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   Accr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  Disbursement/Obl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12840" y="2436840"/>
            <a:ext cx="6235560" cy="2694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 FUNCTION                BLOCK NUMBER 330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DOCUMENT/CUST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APC   ODC   NUMBER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0     *    25CZ L101   2   W23DFB*3530001   226511   F    8153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0000" y="5484960"/>
            <a:ext cx="614808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 330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3    *     25CZ   L101    2 W23DFB*3530001          1664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554640" y="6703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53080" y="8010360"/>
            <a:ext cx="6094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ESSAG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04920" y="5416560"/>
            <a:ext cx="0" cy="303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11040" y="8458200"/>
            <a:ext cx="623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553080" y="5416560"/>
            <a:ext cx="0" cy="303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11040" y="5410080"/>
            <a:ext cx="623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1400" y="8763120"/>
            <a:ext cx="6403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K                                                                         35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7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9" name=""/>
          <p:cNvSpPr/>
          <p:nvPr/>
        </p:nvSpPr>
        <p:spPr>
          <a:xfrm>
            <a:off x="41400" y="8763120"/>
            <a:ext cx="6435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K                                                                          36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205920" y="385920"/>
            <a:ext cx="36792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NONE.  Commitment Docu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Commit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1400" y="8763120"/>
            <a:ext cx="6403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K                                                                         37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80120" y="4041720"/>
            <a:ext cx="986040" cy="226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O NOT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4" name=""/>
          <p:cNvGraphicFramePr/>
          <p:nvPr/>
        </p:nvGraphicFramePr>
        <p:xfrm>
          <a:off x="0" y="0"/>
          <a:ext cx="6858000" cy="899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899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6" name=""/>
          <p:cNvSpPr/>
          <p:nvPr/>
        </p:nvSpPr>
        <p:spPr>
          <a:xfrm>
            <a:off x="41400" y="8763120"/>
            <a:ext cx="6435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K                                                                          38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206640" y="385920"/>
            <a:ext cx="33361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NONE  Accrual Docu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Accr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AE/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00160" y="2443320"/>
            <a:ext cx="61480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ACCRUAL/EXPENSES-GENERAL  FUNCTION      BLOCK NUMBER  330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                     DOCUMENT            F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 EOR  APC   ODC       NUMBER             I    AMOUNT    NAME     FOREIG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URRENC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32   *   25CZ W601   2    W23DFB*3340001               163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1400" y="8763120"/>
            <a:ext cx="6403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K                                                                         39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199800" y="385920"/>
            <a:ext cx="62852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 Documentary Evidence/Obligate not later than the month in whi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commen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  Obl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 Obligation/A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 330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    *     21T1 A111     2   MODEST*3120062      24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    *     21T2 A111     2   MODEST*3120062      36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1400" y="8686800"/>
            <a:ext cx="6403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K                                                                         41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1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"/>
          <p:cNvSpPr/>
          <p:nvPr/>
        </p:nvSpPr>
        <p:spPr>
          <a:xfrm>
            <a:off x="41400" y="8686800"/>
            <a:ext cx="6403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K                                                                         42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05920" y="385920"/>
            <a:ext cx="37476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 NONE.  Commitment Docu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Commit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400" y="8674200"/>
            <a:ext cx="6435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K                                                                          13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80120" y="3965400"/>
            <a:ext cx="986040" cy="226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O NOT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202320" y="385920"/>
            <a:ext cx="51879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   Documentary Evidence/Obligate Upon Accept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    Accr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   Obl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00160" y="2443320"/>
            <a:ext cx="61480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  330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3    *    25CZ   A111    1   MIPRN12**          150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1400" y="8686800"/>
            <a:ext cx="6403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K                                                                         43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900000" y="444600"/>
            <a:ext cx="4601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STALLATION BLOCK TICKE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 USE OF THIS FORM, SEE AR 37-108; THE PROPONENT IS DF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1000" y="977760"/>
            <a:ext cx="6570720" cy="7475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LOCK NR     TYPE DOCUMENT          NUMBER OF DOCUMENTS            DATE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51           TBO DISB / COLL                2                      *3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UND DISBURSEMENT JOURNAL                    OTHER  (                    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CCOUNT      DEBIT       CREDIT        ACCOUNT         DEBIT          CRED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/A 41          $ 240.00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                               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OSTED TO AND B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6320" y="457200"/>
            <a:ext cx="654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6320" y="4636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2440" y="14479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82440" y="16002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82440" y="19051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2440" y="54100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971800" y="1606680"/>
            <a:ext cx="0" cy="410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2440" y="57150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990720" y="19112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828800" y="1911240"/>
            <a:ext cx="0" cy="349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19112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181480" y="19112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828800" y="54165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2440" y="21337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2440" y="23623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82440" y="26668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82440" y="29718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82440" y="32767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82440" y="35812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82440" y="38862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82440" y="41911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82440" y="44956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82440" y="48006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2440" y="51055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2440" y="60199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82440" y="66294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2440" y="73915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14300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20968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27672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49568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410080" y="60260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31400" y="8369280"/>
            <a:ext cx="3686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A FORM 3974  1 NOV 72   (COMPUTER LOOK ALIK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629400" y="45720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573200" y="3297240"/>
            <a:ext cx="3387240" cy="580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UDENT 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SN:  5059, 110 REPORT  T/L  #D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400" y="8686800"/>
            <a:ext cx="6403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K                                                                         44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131760" y="139680"/>
            <a:ext cx="6582240" cy="40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OU ARE IN THE BLOCK TOTAL FUNCTION                        SIC:   AV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*BTC  SRC  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                                 * TBO  ONLY 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LOCK       TYPE      C    JULIAN        TOTAL         PAY ST      T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UMBER      ACTION     I     DATE        AMOUNT          DSSN     NUMBER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35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___41___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T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__*365__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__24000__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___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5059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__D2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ESSAG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267080" y="692280"/>
            <a:ext cx="0" cy="18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019920" y="692280"/>
            <a:ext cx="0" cy="18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1400" y="8686800"/>
            <a:ext cx="6403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K                                                                         45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205920" y="385920"/>
            <a:ext cx="367920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 Not Necessa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  Obligation/Travel Adv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 Disbursement/Colle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00160" y="2443320"/>
            <a:ext cx="621648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-TBO FUNCTION          BLOCK NUMBER  351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DOCUMENT/CUST    VOUCHER   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  YEAR   EOR  APC   ODC     NUMBER         NUMBER   I  AMOUNT IB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1      *     21T1 A141   2  JOH7776TT11140     415320   F   23500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1      *     4110 A141   2  JOH7776TT11140     415320   F    9500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553080" y="571500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1400" y="8686800"/>
            <a:ext cx="6403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K                                                                         47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0" name=""/>
          <p:cNvGraphicFramePr/>
          <p:nvPr/>
        </p:nvGraphicFramePr>
        <p:xfrm>
          <a:off x="0" y="0"/>
          <a:ext cx="6858000" cy="861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86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2" name=""/>
          <p:cNvSpPr/>
          <p:nvPr/>
        </p:nvSpPr>
        <p:spPr>
          <a:xfrm>
            <a:off x="41400" y="8686800"/>
            <a:ext cx="6403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K                                                                         48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206280" y="385920"/>
            <a:ext cx="3542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 Not Necessa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  Accr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 Disburs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00160" y="2443320"/>
            <a:ext cx="621648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-TBO FUNCTION          BLOCK NUMBER  351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DOCUMENT/CUST    VOUCHER   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  YEAR   EOR  APC   ODC     NUMBER         NUMBER   I  AMOUNT IB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1      *     26EQ L1JA   2  W23DFB*3190005     300442       1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1400" y="8686800"/>
            <a:ext cx="6403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K                                                                         49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900000" y="450720"/>
            <a:ext cx="4601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STALLATION BLOCK TICKE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 USE OF THIS FORM, SEE AR 37-108; THE PROPONENT IS DF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1000" y="977760"/>
            <a:ext cx="6570720" cy="704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LOCK NR     TYPE DOCUMENT          NUMBER OF DOCUMENTS            DATE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905        CIVILIAN PAY                1                    *3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UND DISBURSEMENT JOURNAL                    OTHER  (                    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CCOUNT      DEBIT       CREDIT        ACCOUNT         DEBIT          CRED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/A 20       $161,524.00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/A 21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$161,52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/A 42                   $ 64,213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UDENT NOT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CARDS FOR T/A &amp; 21 WILL BE CREA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Y THE SYSTEM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AND DETAIL CARDS FOR THE T/A 42 WIL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E COVERED IN MISCELLANEOUS TRANSACTION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                               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OSTED TO AND B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52280" y="457200"/>
            <a:ext cx="646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629400" y="46980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6320" y="4636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82440" y="14479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2440" y="16002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2440" y="19051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2440" y="54100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971800" y="1295280"/>
            <a:ext cx="0" cy="410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2440" y="57150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990720" y="1911240"/>
            <a:ext cx="0" cy="349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28800" y="1911240"/>
            <a:ext cx="0" cy="349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886200" y="1911240"/>
            <a:ext cx="0" cy="349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181480" y="1911240"/>
            <a:ext cx="0" cy="349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2440" y="21337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2440" y="23623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2440" y="26668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82440" y="29718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2440" y="32767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82440" y="35812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82440" y="38862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82440" y="41911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82440" y="449568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82440" y="48006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82440" y="51055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82440" y="60199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82440" y="66294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82440" y="73915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143000" y="571500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209680" y="57150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276720" y="571500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495680" y="571500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410080" y="571500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37880" y="8001000"/>
            <a:ext cx="3686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A FORM 3974  1 NOV 72   (COMPUTER LOOK ALIK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333440" y="3429000"/>
            <a:ext cx="5029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295280" y="3467160"/>
            <a:ext cx="0" cy="1447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333440" y="4952880"/>
            <a:ext cx="5029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400800" y="3467160"/>
            <a:ext cx="0" cy="1447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1400" y="8686800"/>
            <a:ext cx="6435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K                                                                          50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201960" y="385920"/>
            <a:ext cx="53935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   Obligate in the month services are receiv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whether or not pai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    Obl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   Obligation/A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(FIRST 2 TRANSACTIONS ONL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99440" y="2443320"/>
            <a:ext cx="642240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 - RDTE/MANHOUR  FUNCTION       BLOCK NUMBER  905   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    DOCUMENT VOUCHER           #EMP       F   OB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EOR  APC   ODC    NUMBER   NUMBER    AMOUNT  PAID  IBOP I   IEB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   *  526-  1100 DPA6   2     CPAO1CA6103351    5706700-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   *        1200 DPA6   1     CPA01CA6103351      25760-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553080" y="579132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1400" y="8686800"/>
            <a:ext cx="6403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K                                                                         52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01960" y="385920"/>
            <a:ext cx="53935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    Simultaneous Liquidation and Obl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    Disburs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   Obligation/AEE/Disburs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(FIRST 2 TRANSACTIONS ONL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99440" y="2443320"/>
            <a:ext cx="649080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 - RDTE/MANHOUR  FUNCTION       BLOCK NUMBER  905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 DOCUMENT     VOUCHER           #EMP       F   OB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EOR  APC   ODC NUMBER       NUMBER    AMOUNT  PAID  IBOP I   IEB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0    * 294  1100 DPA6    2 CPA01CA6103365 300017  211600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0    *      1200 DPA6    1 CPA01CA6103365 300017     824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1760" y="8686800"/>
            <a:ext cx="637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K                                                                         54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201960" y="385920"/>
            <a:ext cx="53935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   Obligate in the month in which services ar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ceived, whether or not paid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    Obl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   Obligation/AE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(FIRST 2 TRANSACTIONS ONL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99440" y="2443320"/>
            <a:ext cx="649080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 - RDTE/MANHOUR  FUNCTION       BLOCK NUMBER 905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    DOCUMENT    VOUCHER           #EMP       F   OBS/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EOR  APC   ODC    NUMBER      NUMBER    AMOUNT  PAID  IBOP I   IEB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    *  232  1100 DPA6   2  CPAO1CA6103365          2536000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    *       1200 DPA6   1  CPA01CA6103365            11200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553080" y="571500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1760" y="8686800"/>
            <a:ext cx="637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K                                                                         56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2200" y="8750160"/>
            <a:ext cx="3648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04080" y="8610480"/>
            <a:ext cx="333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37640" y="1066680"/>
            <a:ext cx="5175000" cy="52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UDENT NO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MONTH RENTAL BEGINNING 1 DEC @ 10,000 PER MON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01600" y="385920"/>
            <a:ext cx="55306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Obligate funds when the contract is signed for the ful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mount of the contract provided the contract does no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xceed 12 month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Accru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Obl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0160" y="2443320"/>
            <a:ext cx="61480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  330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3    *     2320 W330     2  W23DFB*3190004     1000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400" y="8686800"/>
            <a:ext cx="6435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K                                                                          15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05920" y="385920"/>
            <a:ext cx="36792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 NONE.  Commitment Docu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 Commit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400" y="8674200"/>
            <a:ext cx="6403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K                                                                         17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80120" y="3965400"/>
            <a:ext cx="986040" cy="226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O NOT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1000" y="74520"/>
            <a:ext cx="6684840" cy="941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QUEST AND AUTHORIZATION FOR TDY TRAVEL OF DOD PERSONNEL                    DATE OF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REFERENCE:  JOINT TRAVEL REGULATIONS)                               REQUES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AUTHORIZED AS INDICATED IN ITEMS 2 THROUGH 21.                    4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REQUEST FOR OFFICIAL TRAVEL                                      .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.  NAME (LAST, FIRST, MIDDLE INITIAL          3. POSITION TITLE AND GRADE OR RA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WILSON, JOHN D.     256-54-9701             CPT   AUDI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.     OFFICIAL STATION                        5.  ORGANIZATIONAL ELEMENT       6.  PHONE N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. STEWART, GA  31314                        COMPTROLLER                     24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7.  TYPE OF ORDERS     8. SECURITY CLEARANCE   9.  PURPOSE OF TD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DY                   SECRET               MEETING FOR FUNDING RESERVE CENT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0a.APPROX NO OF DAY   b. PROCEED O/A (DA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 TDY (INCLUDING)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AVEL TIME)                 18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1.  ITINERARY             [ ]VARIATION AUTHORIZ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8 DEC **    FROM FT. STEWART, - ARR CHICAGO, IL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3 DEC **    DEP CHICAGO - ARR FT. STEW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2.                           MODE OF TRANSPOR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COMMERCIAL               GOVERNMENT                PRIVATELY OWNED CONVEYANCE (CHECK ONE)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RAIL AIR  BUS  SHIP   AIR  VEHICLE  SHIP          RATE  PER MILE  .31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XX                                           [ ] MORE ADVANTAGEOUS TO GOVERN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ILEAGE REIMBURSEMENT AND PERDIEM IMI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 DETERMINED BY APPROPRIATE                   [ ]TO CONSTRUCTIVE COST OF COMMON CARRI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 ]TRANSPORTATION OFFICER (O/S ONLY)                 TRANSPORTATION &amp; RELATED PER DIEM 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ETERMINED IN JTR.  TRAVEL TIME LIMI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AS INDICATED IN JTR.                   .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3.  [X]  PERDIEM AUTHORIZED IN ACCORDANCE WITH JTR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[ ] OTHER RATE OF PER DIEM (SPECIFY)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.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4.                               ESTIMATED COST                           15.  ADVANCE      .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ER DIEM            TRAVEL           OTHER             TOTAL            AUTHORIZE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$  146.00             $  35.00        $  4.00          $  185.00               MAX     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6.  REMARKS  (USE THIS SPACE FOR SPECIAL REQUIREMENTS, LEAVE, SUPERIOR OR 1ST CLAS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XCESS BAGGAGE, REGISTRATION FEES, ETC.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OVERNMENT QUARTERS AND MESSING FACILITITES ARE AVAILABL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7. REQUESTING OFFICIAL (TITLE/SIGNATURE)         18. APPROVING OFFICIAL (TITLE AND SIGNATUR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                                               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ATHERINE GARRITY, CPT, AG,ADMIN OFFICER          ROBERT L. EICHLER, LTC, GS, COMPTROLL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UTHORIZ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9. ACCOUNTING CI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96.NB-21T1 WIL9701TT/N103 S09076  $ 35.00      HORANCE R. BEEM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*2020 76-9505 117096.NB-21T2 WIL9701TT/N103 S09076  $150.00      MAJ, F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           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BUDGET OFFICER        .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0.  ORDER AUTHORIZING OFFICIAL (TITLE AND SIGNATURE)               21.  DATE ISSU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S/                                                06 DEC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JOHN J. SHOLTO, MAJ, AG                                    22.  TRAVEL ORDER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O#12-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5080" y="36576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440" y="259092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52680" y="84456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153036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62485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1040" y="6934320"/>
            <a:ext cx="646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71629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30760" y="8153280"/>
            <a:ext cx="204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6934320"/>
            <a:ext cx="22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280" y="32767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114300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152388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5335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86400" y="11494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3048120"/>
            <a:ext cx="662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1981080"/>
            <a:ext cx="319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79311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320" y="8532720"/>
            <a:ext cx="2650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D FORM 1610  (COMPUTER LOOK ALIK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62546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82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352680" y="67896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9000" y="3282840"/>
            <a:ext cx="0" cy="120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2280" y="3809880"/>
            <a:ext cx="327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3880" y="3282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35114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9092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3880" y="4959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4883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4883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81480" y="48070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400" y="8686800"/>
            <a:ext cx="6435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K                                                                          18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01600" y="385920"/>
            <a:ext cx="55994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Obligate not later than the month that travel commen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Obl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Obligation/A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  330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     *     21T1 N103     2   WIL9701TT12007       35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     *     21T2 N103     2   WIL9701TT12007      15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400" y="8674200"/>
            <a:ext cx="6403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K                                                                         19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152280" y="457200"/>
          <a:ext cx="6400800" cy="868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57200"/>
                    <a:ext cx="6400800" cy="868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4568760" y="1370160"/>
            <a:ext cx="1342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RD FINANCE B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T. STEWART, GA  313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DSN:  63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 DEC *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400" y="8674200"/>
            <a:ext cx="6403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AK                                                                         20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20T14:03:52Z</dcterms:created>
  <dc:creator>Soldier Support Institute</dc:creator>
  <dc:description/>
  <dc:language>en-US</dc:language>
  <cp:lastModifiedBy>Administrator</cp:lastModifiedBy>
  <cp:lastPrinted>2000-12-19T13:55:05Z</cp:lastPrinted>
  <dcterms:modified xsi:type="dcterms:W3CDTF">2004-08-18T22:47:33Z</dcterms:modified>
  <cp:revision>49</cp:revision>
  <dc:subject/>
  <dc:title>No Slide Title</dc:title>
</cp:coreProperties>
</file>